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324A-458E-40AF-90F9-B09067D65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6359-1DE6-4E1B-B7A7-CCA908E4B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2324-61AF-4332-B582-CDDC28B34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4E16-BFC0-478C-BB2F-0FE8E208B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5999-4659-484C-89FB-0D0820FD2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990A-4B67-4AE0-B3EA-024591CCD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F4B1-C917-43BE-A94F-4BD7C629D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CFB9-A261-4553-B977-A1CBC03F8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8450-B595-4BDE-9BFB-65198F3CA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6EC7-D0D2-4C4A-924D-E49F58225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8611-4D9C-4166-8967-BA866734B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D88F-A530-46F2-B161-988995AF1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E90C-A8FB-4C9C-8F52-54005ABCB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have used positive coordinates if I see this as 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BF75-C0FE-46C7-A3ED-663B31524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83CD-B981-485A-9D46-D56A21E7D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463F-BAC7-4280-96CC-85B737298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E3FF-0C43-4F13-B9B7-9EBF59851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4EF6-0122-4661-9ACD-2526DD740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B411-6B91-486B-A267-9FAE9F509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0B38-589D-411D-BE93-110E62382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F4AB-036B-4ADD-89B8-CD08309CB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ADE7-B81E-4F31-BE9A-3BA18E528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5FB0-1FBA-48FE-B253-FD1F16A3E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8695-7AC8-441E-9CCA-A667417D3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535D-8B6A-4894-977D-918D91D6F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3DC1-F586-4008-B80A-1F0EE44EF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AA0C-B6A1-44DD-ABD0-FA684D5B7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1 that summarizes previous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0F9A-97A9-4ACE-A310-12212219B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1FE1-0EDB-4298-B0E1-017536983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D6AE-8B89-4CD8-BCCD-4FABBC3F2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B0FA-35C5-4C89-BD0E-2675AE68B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B25D-916F-46E8-8A9D-032D39298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22AF-1E9D-4846-8FA8-F5833DAA0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0C52-B043-44F4-BC2F-3DD0D5379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3AA5-614C-4453-B73D-8F631DBB1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7851-8899-4A44-8216-17F018C11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be y = 4x – 4 or y =  4(x-2)^2 + 4 or y = 2x^3 -8x^2 +6x +8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4ACB-7C25-4DB2-8F75-62C55E6B3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E15E-0D3C-4B82-9FFB-681978578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EF8E-835F-402A-BAB2-A65FD5216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127B-8305-4007-8AE6-4805DB3F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12A5-819C-4E7B-990A-629CC3E4A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C29E-8B1B-4371-8002-209C97F93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6109-DE98-419A-9FF0-8BC7D01AA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A7E5-8FD8-4B5C-A045-A49FB8B5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D524-632C-4D88-A1B5-0397574D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6A21-755E-484C-8BF2-9FCC3125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4F3F-8BC3-4355-9753-B897DE58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0528-BCC3-4545-928F-B7892394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3133-367A-4C72-AC04-03DAF257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75BF-25F2-4945-BEC2-39C57DC9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8EEC-80BD-4216-A0BF-00765F1B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32FF-57F8-4E78-A532-9DF18628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D632-A204-4C6B-95A1-1B4C30BB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3021-FD7D-464C-8398-BD7DDBA28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1A8E-8697-4F8F-BC97-9221C30E7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D433-A92D-4B88-A486-448EA16C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4BB7-FA95-4221-913B-7C4B1654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DC5D-98A0-4A53-ACEC-361086C6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88C2-C40A-4500-B31E-E83920BA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E5DE-36B8-4C2F-ADD3-392FACEB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A677-135C-48FA-9B91-1E31F0F7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6373-4AAD-431F-9F4C-1F0544A5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1510-0ADB-49B1-815B-2CB9123F682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Untitled-1"/>
          <p:cNvPicPr/>
          <p:nvPr/>
        </p:nvPicPr>
        <p:blipFill>
          <a:blip r:embed="rId3"/>
          <a:stretch/>
        </p:blipFill>
        <p:spPr>
          <a:xfrm>
            <a:off x="380880" y="380880"/>
            <a:ext cx="6853320" cy="1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26AA-F3F7-4FD0-BBD5-375C03B4F7B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Plenary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t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90720" y="2057400"/>
            <a:ext cx="25146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: Write an equation and solve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63AC-A651-4EFE-ABA7-2EAEDB02511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952880" y="1981080"/>
            <a:ext cx="34290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es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: Solve 3x-2 = 8. Describe your strateg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155600" y="990720"/>
            <a:ext cx="67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Using open questions for assessment for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open question, as a minds-on activity, provides valuable info about how to proceed with your less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9094-2753-40D6-BAAB-E8D0CA2F416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155600" y="990720"/>
            <a:ext cx="67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Using open questions for assessment for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might tell you that there are giant missing prerequisites that will get in the w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F6B0-8A21-42AA-BBBA-62B7531EC66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55600" y="990720"/>
            <a:ext cx="67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Using open questions for assessment for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might tell you that your students already know what you were planning to teac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44B5-ECAE-46F6-B1D0-F676EDFDC3B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155600" y="990720"/>
            <a:ext cx="67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Using open questions for assessment for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might tell you some unanticipated directions you will need to take with some studen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0369-BD01-4A40-AD1A-A32342DAB66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066680" y="289548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lope of a line is -2/3. Tell the coordinates of two points on the l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EFA2-5342-4AF1-BF40-3BF314D4193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I could notic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066680" y="289548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me students start with a point, go 2 to the right and 3 down 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5523-20AE-4D12-AAAB-4AD960EE362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I could notic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066680" y="289548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me students start with a point, go 3 to the left and 2 down 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19CB-E1D7-44A4-97B4-0C0021D6DCC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I could notic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066680" y="289548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udents write y =-2/3 x + 8 and substitute two different values for x  but have trouble with the arithmetic OR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B121-D044-4807-87FB-CF135F7C9B2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I could notic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066680" y="289548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at negative slopes cause trouble and recognize that some students need more time before they are ready for t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922B-23D1-469B-9985-7AF847F5976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Opening up questions for a minds-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4876920" y="2057400"/>
            <a:ext cx="373356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ne of slope 2/3 goes through (-4,-1). What is the equ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F3E2-A9E4-464B-8BF8-0BCED89A29E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762120" y="2149560"/>
            <a:ext cx="373356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ne of slope -3/2 goes through (-4,-1). What is the equ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947C-684D-4EC7-9599-50EFC73C420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762120" y="2149560"/>
            <a:ext cx="77724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 you know which way your line slants? How do you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8363-1C97-48B4-A489-5AB2B9C072A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762120" y="2149560"/>
            <a:ext cx="77724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(-4, 3) be on your line? How do you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(-3, 0) be on your line? How do you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0249-5B45-40F1-99CC-6A706AD6312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762120" y="2149560"/>
            <a:ext cx="7772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 you need to know to write the equ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you get that inform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BFCB-D39E-418A-AC12-70DBF358DDA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762120" y="2149560"/>
            <a:ext cx="77724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your equ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you be sure you’re r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Basic si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E4EE-58D7-4F08-8C85-45975A0953D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762120" y="214956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isa : $1.15- quarters/nick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838080" y="3200400"/>
            <a:ext cx="77724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my : $0.80- half the quarters/twice the nick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any of each for Lis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he 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C823-3476-412F-BE15-B6C78FD488E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762120" y="2149560"/>
            <a:ext cx="777240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tion 1:  Use equations to model the problem and then solve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tion 2: Solve the problem using your number sen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DDBC-2D91-4722-93C5-DD88E62C9DE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762120" y="1905120"/>
            <a:ext cx="77724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need to know how much each coin was worth or just the relationship between th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id you know that Amy had an even number of nicke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2399-35EA-4A24-A0C5-310460874B3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762120" y="2149560"/>
            <a:ext cx="777240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you be sure that Amy had an even number of quarter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 you know that each girl had fewer than 5 quart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F5CD-5B19-4C6D-8E95-3ED6EA3D79C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762120" y="2149560"/>
            <a:ext cx="7772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id you solve the problem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 you know your solution is correc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is an open ques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66680" y="289548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 1:  Describe a relation whose graph is sort of like this o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8303-7B25-4B51-944E-2532FE29F6D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ne mor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B363-7FBA-48DB-BA85-AEF59A313EA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762120" y="1981080"/>
            <a:ext cx="32004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 algebra tiles to model two polynomials that add to 6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8x+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4343400" y="1828800"/>
            <a:ext cx="3657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 algebra tiles to model two polynomials that multiply to 6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8x+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me 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CABE-DE46-4ABA-A967-4218C492EE3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762120" y="1981080"/>
            <a:ext cx="7696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algebra tiles show 6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8x+2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there any other way to model that polynomi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me 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D98E-562B-4744-A422-C0572B49772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762120" y="1981080"/>
            <a:ext cx="7696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id you arrange your ti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id you figure out how to star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me 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5F5D-4048-491A-8B8E-F983254E5C6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762120" y="1981080"/>
            <a:ext cx="7696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there any other way you could have arranged the ti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2385-9D0B-4874-A3B2-8021B40B6A0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762120" y="1752480"/>
            <a:ext cx="7696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 your group, choose one of the suggested set of parallel task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velop some common consolidating ques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0043-6C11-4116-8DD4-CE5C414D688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762120" y="1752480"/>
            <a:ext cx="7696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 to the one of the four corners for people who did your task. Share your questions with another group in your corn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FBDD-28E1-4965-BAD6-725A16C2C4F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762120" y="1752480"/>
            <a:ext cx="7696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eate a “flow chart” to show the steps you would take to create parallel tasks. Draw on chart pap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5D36-243F-49A9-82A0-9F443929029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762120" y="1752480"/>
            <a:ext cx="76960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cuss at your tab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of the steps would be hardest to do alo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B4CB-7819-41C4-8AEC-C7D0FA79E2A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762120" y="1752480"/>
            <a:ext cx="76960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 your flowchar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icipate in a gallery wal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9FDB-068A-4949-BAAD-B56105DD8D9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Picture 1.png"/>
          <p:cNvPicPr/>
          <p:nvPr/>
        </p:nvPicPr>
        <p:blipFill>
          <a:blip r:embed="rId1"/>
          <a:stretch/>
        </p:blipFill>
        <p:spPr>
          <a:xfrm>
            <a:off x="0" y="1349280"/>
            <a:ext cx="9144000" cy="415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t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990720" y="1981080"/>
            <a:ext cx="304776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be relation… sort of like this o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FB38-4D46-4093-AE4B-36C6F4F764F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5105520" y="1905120"/>
            <a:ext cx="304776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type of relation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he underlying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066680" y="289548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 you think is the big idea underlying the open ques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B3E7-A5AA-41CB-82E7-A5A14948956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t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990720" y="220968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ap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passes through the points (2,4) and (3,8).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escribe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lation the graph represent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3CE0-C9FE-4AA6-9905-6C53DAC029F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1066680" y="22096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Not ope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: A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in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passes through the points (2,4) and (3,8).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rite the equatio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of the l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07E5-D3AE-4B9F-85EE-9513CBAC7C5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made it o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066680" y="289548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made the first question o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294B-84B8-445F-BA6F-BED96D5156C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18:21:04Z</dcterms:created>
  <dc:creator>PSteele</dc:creator>
  <dc:description/>
  <dc:language>en-US</dc:language>
  <cp:lastModifiedBy>Marian Small</cp:lastModifiedBy>
  <dcterms:modified xsi:type="dcterms:W3CDTF">2009-07-31T18:40:20Z</dcterms:modified>
  <cp:revision>237</cp:revision>
  <dc:subject/>
  <dc:title>Slide 1</dc:title>
</cp:coreProperties>
</file>